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B31F-1DAF-4E87-B5A4-BA950646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3BAD-0303-4D27-81F0-70571D36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4F93-8704-4374-9FD6-A137DAB5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4097-27D4-4A38-B6BF-48CC0245D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1290-67E6-4544-9A1D-682C590B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BE28-F3D4-4D36-9BFB-DF87DCEE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DF1E-1D7F-48C6-8174-9EEAE9A5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25D2-C5AD-4A71-84EE-A9580069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49A4-6FED-4BB2-A5D6-C25E7C08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137F-E059-4EA4-A13B-7ECC2123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9C58-32E3-4604-A227-F0228D88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B114-0C1B-449F-9DBF-397298AE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8631-2E0E-46BE-AA55-807FA6933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228600"/>
            <a:ext cx="0" cy="6477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523880"/>
            <a:ext cx="853452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28600" y="228600"/>
            <a:ext cx="0" cy="64771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28600" y="6705720"/>
            <a:ext cx="228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228600"/>
            <a:ext cx="228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Years of Silenc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8, Lesson 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131-1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3049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Remnant Shall Retur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55C3-BEFC-4F1A-870C-BB3769131489}" type="slidenum">
              <a:t>1</a:t>
            </a:fld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Roman Empire.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s tried to control the eastern Mediterranean S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 resistance from Carthage, a North African city-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wo powers fought three “Punic” wa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ut 264 B.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ut 219 B.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ut 149 B.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e won the wars, then turned eastw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is same period, Egypt and Syria were fighting over control of Jud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FAD1-A6EA-45D7-9610-D20069837BB3}" type="slidenum">
              <a:t>10</a:t>
            </a:fld>
          </a:p>
        </p:txBody>
      </p:sp>
    </p:spTree>
  </p:cSld>
  <p:transition>
    <p:zoom dir="in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600200" y="3276720"/>
            <a:ext cx="1676520" cy="3682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unic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1523880"/>
            <a:ext cx="1752480" cy="3682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unic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4572000"/>
            <a:ext cx="1752840" cy="3682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unic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35812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819520" y="182880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133720" y="4191120"/>
            <a:ext cx="8380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B560-759C-4E73-96B6-092BE2B95C0A}" type="slidenum">
              <a:t>11</a:t>
            </a:fld>
          </a:p>
        </p:txBody>
      </p:sp>
    </p:spTree>
  </p:cSld>
  <p:transition>
    <p:zoom dir="in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Roman Empire.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Romans marched toward the east, they came up against the Syr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pick up here in the next `les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616D-0227-46A1-8E44-B2F1C597EE0D}" type="slidenum">
              <a:t>12</a:t>
            </a:fld>
          </a:p>
        </p:txBody>
      </p:sp>
    </p:spTree>
  </p:cSld>
  <p:transition>
    <p:zoom dir="in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 we begin this lesson.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yrians were defeated by the Babylonians with help from the Me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bylonians were defeated by the Persians (who had control of the Mede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rsians were defeated by Greeks - Alexander The G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ander’s kingdom was divided five ways because of chaos and in-figh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“Grecian Empire” bore its own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DBFA-7781-474D-BA25-9748A592FE19}" type="slidenum">
              <a:t>2</a:t>
            </a:fld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352680" y="5029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048120" y="4419360"/>
            <a:ext cx="30456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5029200"/>
            <a:ext cx="1447920" cy="380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ECDE-D2A6-4F8A-8895-068B12EB501D}" type="slidenum">
              <a:t>3</a:t>
            </a:fld>
          </a:p>
        </p:txBody>
      </p:sp>
    </p:spTree>
  </p:cSld>
  <p:transition>
    <p:zoom dir="in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 the North and West.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reek-Syrian empire was ruled by Seleucus Nic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empire was created from the Peace of Ipsus Treaty of 301 B.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d part of Asia Minor, all of Babyl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Ju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built Antioch of Syria as his headquar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yrian empire (“Seleucid” dynasty) lasted from 301 B.C. to about 64 B.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1959-9647-465D-99F3-FE0D348DDE7B}" type="slidenum">
              <a:t>4</a:t>
            </a:fld>
          </a:p>
        </p:txBody>
      </p:sp>
    </p:spTree>
  </p:cSld>
  <p:transition>
    <p:zoom dir="in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 the South.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reek-Egyptian empire was ruled by Ptolemy So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empire was also created by the Peace Treaty of Ipsus of 3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tolem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laim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Judean territory for the next 100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more Pharao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exandria was his capi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ea in the middle of power strugg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8D99-42C5-44A6-BF25-0F2CF91234D1}" type="slidenum">
              <a:t>5</a:t>
            </a:fld>
          </a:p>
        </p:txBody>
      </p:sp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ere the Jews stood.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ws were allowed to keep their own form of worship and lifestyles as long as they did not infringe on the politics of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ws were permitted to migrate to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ularly to Alexand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to other parts of the Grecian empi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dopted the language and customs of the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6B32-B73F-400D-91B3-04E4448EE694}" type="slidenum">
              <a:t>6</a:t>
            </a:fld>
          </a:p>
        </p:txBody>
      </p:sp>
    </p:spTree>
  </p:cSld>
  <p:transition>
    <p:zoom dir="in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ptuagint Transl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tolemy II worked with the High Priest in Jerusalem to translate the Hebrew scriptures into the Greek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tuagint means “sevent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end: 72 scholars translated in 72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:  People everywhere could read the sacred wri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selytes (Gentile believers) came to 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tle doubt that God approved of this translation; probably in His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E942-156F-4572-8EE8-5E5314A8D01D}" type="slidenum">
              <a:t>7</a:t>
            </a:fld>
          </a:p>
        </p:txBody>
      </p:sp>
    </p:spTree>
  </p:cSld>
  <p:transition>
    <p:zoom dir="in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ere the Jews stood.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ptian empire continued but had little  affect on the J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ochus III of Syria won control of Judea from the Egyptians in about 198 B.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favored the Jew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ve them mo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engthened the office of High Pri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ed them to continue their local cus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is time, Rome was gaining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F92A-92F1-48E1-A2A8-FFBBF0C39987}" type="slidenum">
              <a:t>8</a:t>
            </a:fld>
          </a:p>
        </p:txBody>
      </p:sp>
    </p:spTree>
  </p:cSld>
  <p:transition>
    <p:zoom dir="in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Romans are coming.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buchadnezzar’s four-part dream 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iel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bylon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o-Pers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e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, the Rom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A6CB-74BE-4A2D-98A9-E6C874C546A2}" type="slidenum">
              <a:t>9</a:t>
            </a:fld>
          </a:p>
        </p:txBody>
      </p:sp>
    </p:spTree>
  </p:cSld>
  <p:transition>
    <p:zoom dir="in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15:20:25Z</dcterms:created>
  <dc:creator>Frank D Vines</dc:creator>
  <dc:description/>
  <dc:language>en-US</dc:language>
  <cp:lastModifiedBy>Don Vines</cp:lastModifiedBy>
  <dcterms:modified xsi:type="dcterms:W3CDTF">2006-03-21T04:14:07Z</dcterms:modified>
  <cp:revision>27</cp:revision>
  <dc:subject/>
  <dc:title>Slide 1</dc:title>
</cp:coreProperties>
</file>